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8BB19-BFBA-48E6-9778-DC7BEB969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4ECB8-FAEA-4CBE-B473-5DC717E05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F636D-4530-4A49-AA05-9DC13F763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841ED-D924-4801-AEF1-0E8A5C361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366EF-D248-44D8-933F-CD5E6969C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D7185-B3F9-49BB-A72D-2121E52F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86AF-8BDB-4959-BF84-EB5F78DA1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B67BD-D296-40B1-95BF-9965CA4B2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53637-E633-48E3-B0BB-2369D8F42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28CB-C87A-49FD-9E45-B4C7160B3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0086E-E4E4-485A-9FCA-8B14511D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084F-0FD1-41D7-9D07-BE35691F7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DF4A-F823-40CA-AFDB-03050BD81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y Space Survey</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 Gender Bias </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Olivia White</a:t>
            </a:r>
            <a:endParaRPr b="0" lang="en-US" sz="3600" spc="-1" strike="noStrike">
              <a:solidFill>
                <a:srgbClr val="000000"/>
              </a:solidFill>
              <a:latin typeface="Times New Roman"/>
            </a:endParaRPr>
          </a:p>
        </p:txBody>
      </p:sp>
      <p:pic>
        <p:nvPicPr>
          <p:cNvPr id="43" name="" descr=""/>
          <p:cNvPicPr/>
          <p:nvPr/>
        </p:nvPicPr>
        <p:blipFill>
          <a:blip r:embed="rId2"/>
          <a:stretch/>
        </p:blipFill>
        <p:spPr>
          <a:xfrm>
            <a:off x="7026120" y="4433760"/>
            <a:ext cx="2838600" cy="2847960"/>
          </a:xfrm>
          <a:prstGeom prst="rect">
            <a:avLst/>
          </a:prstGeom>
          <a:ln w="0">
            <a:noFill/>
          </a:ln>
        </p:spPr>
      </p:pic>
      <p:pic>
        <p:nvPicPr>
          <p:cNvPr id="44" name="" descr=""/>
          <p:cNvPicPr/>
          <p:nvPr/>
        </p:nvPicPr>
        <p:blipFill>
          <a:blip r:embed="rId3"/>
          <a:stretch/>
        </p:blipFill>
        <p:spPr>
          <a:xfrm>
            <a:off x="7620120" y="338040"/>
            <a:ext cx="2000160" cy="2022480"/>
          </a:xfrm>
          <a:prstGeom prst="rect">
            <a:avLst/>
          </a:prstGeom>
          <a:ln w="0">
            <a:noFill/>
          </a:ln>
        </p:spPr>
      </p:pic>
      <p:pic>
        <p:nvPicPr>
          <p:cNvPr id="45" name="" descr=""/>
          <p:cNvPicPr/>
          <p:nvPr/>
        </p:nvPicPr>
        <p:blipFill>
          <a:blip r:embed="rId4"/>
          <a:stretch/>
        </p:blipFill>
        <p:spPr>
          <a:xfrm>
            <a:off x="338040" y="369720"/>
            <a:ext cx="2212920" cy="2721240"/>
          </a:xfrm>
          <a:prstGeom prst="rect">
            <a:avLst/>
          </a:prstGeom>
          <a:ln w="0">
            <a:noFill/>
          </a:ln>
        </p:spPr>
      </p:pic>
      <p:pic>
        <p:nvPicPr>
          <p:cNvPr id="46" name="" descr=""/>
          <p:cNvPicPr/>
          <p:nvPr/>
        </p:nvPicPr>
        <p:blipFill>
          <a:blip r:embed="rId5"/>
          <a:stretch/>
        </p:blipFill>
        <p:spPr>
          <a:xfrm>
            <a:off x="793800" y="4857840"/>
            <a:ext cx="1682640" cy="18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My Gender Bias Survey </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surveyed a group of adults and children about gender bias.  My questions were about the differences between men and women such as their emotions, behaviors, sensitivity, and importance.  Although the answers varied, there were some questions that all answered the sam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Subjects of my survey!!</a:t>
            </a:r>
            <a:endParaRPr b="0" lang="en-US" sz="4900" spc="-1" strike="noStrike">
              <a:solidFill>
                <a:srgbClr val="000000"/>
              </a:solidFill>
              <a:latin typeface="Times New Roman"/>
            </a:endParaRPr>
          </a:p>
        </p:txBody>
      </p:sp>
      <p:sp>
        <p:nvSpPr>
          <p:cNvPr id="50"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hildren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 surveyed children my age or older. Younger children wouldn’t understand gender bias. </a:t>
            </a:r>
            <a:endParaRPr b="0" lang="en-US" sz="3500" spc="-1" strike="noStrike">
              <a:solidFill>
                <a:srgbClr val="000000"/>
              </a:solidFill>
              <a:latin typeface="Times New Roman"/>
            </a:endParaRPr>
          </a:p>
        </p:txBody>
      </p:sp>
      <p:sp>
        <p:nvSpPr>
          <p:cNvPr id="51" name=""/>
          <p:cNvSpPr/>
          <p:nvPr/>
        </p:nvSpPr>
        <p:spPr>
          <a:xfrm>
            <a:off x="5208480" y="1828800"/>
            <a:ext cx="4399200" cy="41677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ults </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urveyed some of my adult neighbors and some of my family. I also surveyed some of my mom’s friends at work to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10 survey questions</a:t>
            </a:r>
            <a:endParaRPr b="0" lang="en-US" sz="4300" spc="-1" strike="noStrike">
              <a:solidFill>
                <a:srgbClr val="000000"/>
              </a:solidFill>
              <a:latin typeface="Times New Roman"/>
            </a:endParaRPr>
          </a:p>
        </p:txBody>
      </p:sp>
      <p:sp>
        <p:nvSpPr>
          <p:cNvPr id="5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Do you believe that women can do the same things men c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Do you think real men c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Do you think women are more important than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Do you think women are more emotional than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Do you think women can live without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 Do you think men can live without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Do you think women socalize more than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 Do you think women are more emotionaly strong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 Do you think real women have attitud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Do you believe that men should be a gentlemen to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RAPH KEY            Y= YES    N=NO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4" name=""/>
          <p:cNvSpPr/>
          <p:nvPr/>
        </p:nvSpPr>
        <p:spPr>
          <a:xfrm>
            <a:off x="3119400" y="-84240"/>
            <a:ext cx="401472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ildren</a:t>
            </a:r>
            <a:endParaRPr b="0" lang="en-US" sz="3200" spc="-1" strike="noStrike">
              <a:solidFill>
                <a:srgbClr val="000000"/>
              </a:solidFill>
              <a:latin typeface="Times New Roman"/>
            </a:endParaRPr>
          </a:p>
        </p:txBody>
      </p:sp>
      <p:graphicFrame>
        <p:nvGraphicFramePr>
          <p:cNvPr id="55" name=""/>
          <p:cNvGraphicFramePr/>
          <p:nvPr/>
        </p:nvGraphicFramePr>
        <p:xfrm>
          <a:off x="1015920" y="507960"/>
          <a:ext cx="8120160" cy="6769080"/>
        </p:xfrm>
        <a:graphic>
          <a:graphicData uri="http://schemas.openxmlformats.org/drawingml/2006/table">
            <a:tbl>
              <a:tblPr/>
              <a:tblGrid>
                <a:gridCol w="738360"/>
                <a:gridCol w="738000"/>
                <a:gridCol w="738360"/>
                <a:gridCol w="738000"/>
                <a:gridCol w="738360"/>
                <a:gridCol w="738000"/>
                <a:gridCol w="738360"/>
                <a:gridCol w="738000"/>
                <a:gridCol w="738360"/>
                <a:gridCol w="738000"/>
                <a:gridCol w="738360"/>
              </a:tblGrid>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6" name=""/>
          <p:cNvSpPr/>
          <p:nvPr/>
        </p:nvSpPr>
        <p:spPr>
          <a:xfrm>
            <a:off x="3119400" y="-84240"/>
            <a:ext cx="401472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ults</a:t>
            </a:r>
            <a:endParaRPr b="0" lang="en-US" sz="3200" spc="-1" strike="noStrike">
              <a:solidFill>
                <a:srgbClr val="000000"/>
              </a:solidFill>
              <a:latin typeface="Times New Roman"/>
            </a:endParaRPr>
          </a:p>
        </p:txBody>
      </p:sp>
      <p:graphicFrame>
        <p:nvGraphicFramePr>
          <p:cNvPr id="57" name=""/>
          <p:cNvGraphicFramePr/>
          <p:nvPr/>
        </p:nvGraphicFramePr>
        <p:xfrm>
          <a:off x="1015920" y="762120"/>
          <a:ext cx="8123040" cy="6696000"/>
        </p:xfrm>
        <a:graphic>
          <a:graphicData uri="http://schemas.openxmlformats.org/drawingml/2006/table">
            <a:tbl>
              <a:tblPr/>
              <a:tblGrid>
                <a:gridCol w="738000"/>
                <a:gridCol w="735120"/>
                <a:gridCol w="743040"/>
                <a:gridCol w="738000"/>
                <a:gridCol w="738360"/>
                <a:gridCol w="728640"/>
                <a:gridCol w="749160"/>
                <a:gridCol w="738360"/>
                <a:gridCol w="738000"/>
                <a:gridCol w="738360"/>
                <a:gridCol w="738000"/>
              </a:tblGrid>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715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24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5240" y="312480"/>
            <a:ext cx="9667800" cy="920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My Conclusion </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320480"/>
            <a:ext cx="9667800" cy="579924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ildren - All of the children I surveyed believe that women are more emotional than men.  They all also believe that men should be a gentlemen to women.  However, their answers relating to the questions whether men and women can live without each other were very differ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s - All of the adults I surveyed believe that real men cry.  They all also believe, like the children, that men should be a gentlemen to women.  However, their answers relating to the questions about whether men can live without women and about men socializing were very differ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 learned from my survey was that every person has a different opinion. However, ALL believe that men should be a gentlemen to wom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Vanessa Collier</cp:lastModifiedBy>
  <dcterms:modified xsi:type="dcterms:W3CDTF">2010-05-17T16:56:33Z</dcterms:modified>
  <cp:revision>1</cp:revision>
  <dc:subject/>
  <dc:title>PowerPoint Presentation</dc:title>
</cp:coreProperties>
</file>